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7E1-17E1-4632-A2A6-D4B3B2F4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D876-08DF-4B1E-948B-92967116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476-F318-4ABA-AF4B-D6295DD30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AB9-DBB7-488A-A941-FC21DF49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AF16-BB8D-48E5-BACB-CE437093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DA5-19C8-45CD-8FC8-8E42BDE3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6C5F-931E-4663-AE91-B9965E8A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174-B39D-4F37-9CF9-4CEEB825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003A-7719-4918-B1CC-59796435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C934-26AE-4704-93B3-51EB3132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B4DD-C994-4DBB-A420-66785C26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E292-2EFF-4DCF-A7E3-E61798EF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92FA-6F5C-433A-BCFB-9107E2A33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0328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тицање знања, вештина и компетенција пр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есионалаца за рад са младим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ну петофазног процесног модела професионалне оријентације и стварање системске мреже подршке у области професионалне ориј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1484280"/>
            <a:ext cx="57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865160"/>
            <a:ext cx="7010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447920"/>
            <a:ext cx="8610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пшти циљ програма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3880" y="1143000"/>
            <a:ext cx="696132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3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0"/>
            <a:ext cx="853416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напређивање знања, вештина и компетенција професионалаца з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ну модела ПО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з модуле: самоспознаја, информисање о занимањима, каријери и путевима образовања, реални сусрети са светом рада и доношење одлуке о школи и занимањ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дршку у остварив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еал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усрет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партнерима у области ПО: средње школе;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окалне канцеларије за младе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ционална служба за запошљавање; привре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д с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родитељ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а на пружањ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дршк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еци у  процес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ог информисања и саветовања  до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оношењ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одлуке о избору школе и занимањ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цесно оријентисано индивидуално праћење младих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области професионалне оријентациј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режавање професионалац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институциј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ширење идеје о процесном петофазном моделу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фесионалне оријентације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990720"/>
            <a:ext cx="88390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Специфични циљеви базичне обу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ск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у у средњу шко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ina</dc:creator>
  <dc:description/>
  <dc:language>en-US</dc:language>
  <cp:lastModifiedBy>MP</cp:lastModifiedBy>
  <dcterms:modified xsi:type="dcterms:W3CDTF">2012-02-04T13:21:1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